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A530D3-B504-4308-92E9-381DE1FDA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7A2469-A931-42FA-A41A-F379C6403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00075-9A9D-41C7-9E1E-17FBF9597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11AA0E-21C2-49AD-BC22-23CC4A1DC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2B2A5-BCBD-4043-815F-4465E6C52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BBF22-11AC-4939-B5DE-EF60C0F8D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B0E06-17AB-43D1-A6B6-6D819DE0D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20EDA-CAFE-4E48-B8F9-76711A686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87CA7-F9CC-4E06-A746-597BAC6BE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B386B-B89B-4C83-A875-A6DE903CB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1512F-C94D-4003-88F4-687FE38D2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27F735-86CA-4CCF-A6DE-91D57769D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0F08-FDD8-444D-A21E-AD85AFB01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C39B-6DE0-40AF-9098-895C1DB25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B8185-3B69-45AD-A442-B144C8FDF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60D26-AF23-46CC-8C7E-D9EBAAC1B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0FBEB-FC39-4CAB-A37E-3B9696DC5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1E3F3-B531-436C-BDE6-15B1C6026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293F02-3DF6-45B4-B5EA-C170819D5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E0556A-0947-4CB0-8DEE-9C75F4287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1D08FE-2A2D-4403-9921-725D3FCFD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AC947-7A28-4F28-830E-1B321D96B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BA5BC-9AF5-4F76-AD37-D5C8DE5A4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1A4864-A64F-44B5-926B-C7B2C35636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C30C-263E-47FB-8399-9B8A3335D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6EE8-56C2-4A60-B471-1C091E2241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Introduction to Quality Metrics - 1</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41</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3B76CA6-5430-4D5F-B6EB-B6A9156C58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is an attribute of a room. How can we compare ‘blue’ with ‘off-whi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measure intelligence of human? Is I.Q an accurate measure of the human intellige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and margin of error of measure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and draw conclusions about measur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61D7AB-06F4-4CDF-852E-2507FE1C5E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is a direct quantification of, as in measuring the height of a tree or weight of a shipment of brick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ion is indirect, where we take measurements and combine them into a quantified item that reflects some attribute whose value we are trying to understa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397DB-F7EA-4669-BACD-2A2A9BAD8B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s in SE - 1</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ail to set measurable targets for our software products. For example, we promise that the product will be user-friendly, reliable and maintainable without specifying clearly and objectively what these terms mean</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without clear goals will not achieve their goals clearly (Gilb)</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91877-E136-4C63-9A3F-5B858844D5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s in SE - 2</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ail to understand and quantify the component costs of software projects. For example, most projects cannot differentiate the cost of design from the cost of coding and tes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quantify or predict the quality of the products we produ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8E79C-0BA6-4B9D-919C-D258860A40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s in SE - 3</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ow anecdotal evidence to convince us to try yet another revolutionary new development technology, without doing a carefully controlled study to determine if the technology is efficient and effecti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A743F7-ACA6-442B-9757-C450F49673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bjectives for Software Measurements and Measurement Programs</a:t>
            </a:r>
            <a:endParaRPr b="0" lang="en-US" sz="3000" spc="-1" strike="noStrike">
              <a:solidFill>
                <a:srgbClr val="ffffff"/>
              </a:solidFill>
              <a:latin typeface="Arial"/>
            </a:endParaRPr>
          </a:p>
        </p:txBody>
      </p:sp>
      <p:sp>
        <p:nvSpPr>
          <p:cNvPr id="13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795ACE6-7F6D-4203-B0B7-08DA83808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s’ Perspective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each process co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roductive is the staf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good is the code being develop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user be satisfied with the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improv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44A3E5-BE7A-4A68-9A17-387722BFE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s’ Perspective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requirements testa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we found all the fa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we met our product or process go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happen in the fu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4AE53-8FF8-4524-AA6D-B3374D1645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for Collecting Metrics - 1</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performance appraisals to evaluate individual productivit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existence, particularly in the era of company downsizing, justification may be needed for the existence of separate test group</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quality of one system with another (similar)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7C31C3-19E1-4481-9128-B9331E485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for Collecting Metrics - 2</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if the quality level is affected when any changes are introduced to the softw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ime and cost required to develop a syst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quality of service and support provided to the custom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98036-CB65-423E-B59B-9441DB203E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ftware industry is in a constant state of change. With advances in hardware, software, graphical, and multimedia technologies, applications are constantly being rethought, redesigned, and reengineered. New development methods and techniques are continuously evolving. Because of this environment of continuous change, the software environment or software business can be extremely difficult to man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C408E9-3011-4D74-BF91-398AAF8882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Metrics - 1</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customer satisfa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productivity and quality by quantifying development and maintenance process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identify, and analyze tren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useful information for planning cyc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0F70D-4733-426B-859D-4E43DCCF6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Metrics - 2</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baseline against which future efforts can be measur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skill level and the number of resources required to support a given applic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rograms that require special attention or additional maintenance 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2C892-5F42-49A7-8ED8-6232C569C0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Metrics - 3</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mplex programs that may cause unpredictable res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onstructive means of making decisions about product qu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94B16-C1CF-43B3-B8A2-A94D6BF7F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Metrics - 1</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n initial cost associated with setting up a measurement syst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long-term gains derived by measuring and implementing process improvement programs certainly outweigh the cos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8C15A3-B5E7-4B7A-8256-562E354E1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Metrics - 2</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that require cost consideration when implementing measurement progra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development methodolog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chan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395477-2C36-464D-B514-878B82026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Software Metrics</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met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et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etric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E6430-E7B1-4E38-A9E5-5185ECBD8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Metrics</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metrics are those that describe the characteristics of the product such as size, complexity, design features, performance, and quality leve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1A8B93-4150-4F5C-B085-9F3FA33FC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Metric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etrics are those that can be used for improving the software development and maintenanc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include the effectiveness of defect removal during development, the pattern of testing defect arrival, and the response time of the fix proc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1D32F-2A57-45C0-BC64-685156884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etrics</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etrics are those that describe the project characteristics and exec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include the number of software developers, the staffing pattern over the life cycle of the software, cost, schedule, and productiv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273506-E61F-421C-AF4A-291BFD999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Metric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quality metrics are a subset of software metrics that focus on quality aspects of the product, process, and project</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software metrics are more closely associated with process and product metrics than with project metrics</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theless, the project parameters such as number of developers and their skill levels, the schedule, the size, and the organization structure certainly affect the quality of the produ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E8A7AE-6843-412F-932D-4BC3210BDC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hange management techniques require consistent and meaningful meas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of an organization to effectively and efficiently manage data provides a true competitive advantage and adds value to the company’s bottom li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DD8B3E-E1D3-4202-BA3D-CB9DFC3F4D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we discuss software quality metrics, let’s first discuss attributes of software qu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CF3E5-42C8-4034-BF1E-F2BF5A9614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ttributes of Software Quality</a:t>
            </a:r>
            <a:endParaRPr b="0" lang="en-US" sz="5000" spc="-1" strike="noStrike">
              <a:solidFill>
                <a:srgbClr val="ffffff"/>
              </a:solidFill>
              <a:latin typeface="Arial"/>
            </a:endParaRPr>
          </a:p>
        </p:txBody>
      </p:sp>
      <p:sp>
        <p:nvSpPr>
          <p:cNvPr id="16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FE7388F-5CFE-419D-8667-2006B8DAAE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s of Software Quality - 1</a:t>
            </a:r>
            <a:endParaRPr b="0" lang="en-US" sz="40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BB2AFD-2C6E-49F1-B8D4-BE069D20E0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tributes of Software Quality - 2</a:t>
            </a:r>
            <a:endParaRPr b="0" lang="en-US" sz="4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abi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CB3673-664A-4B8F-B83F-615233EDB9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ness</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to which a program satisfies specifications and fulfills user’s mis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3F481-A242-49C7-9A5C-DC0003B439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to which a program can be expected to perform the intended function with accuracy (acceptable level of down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71559-FBD7-44E5-A192-E7AE3833EA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to which a computer uses minimum resources to perform a fun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05014-9388-4266-B27E-2C0C743FD8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ity</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to which access to software by unauthorized persons can be controll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546F71-A7D4-40D9-A354-5521BEB13B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bility</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ort required to use or learn the appli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EF77EE-4D1B-4BAF-A02E-52E7A6455A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tainability</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fficult it is find and fix the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CBBE1C-9135-46BD-94A8-C274C48DE6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 Glossary of Software Engineering Terminology defines “measure” as an activity that ascertains or appraises by comparing to a standar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BDCA1-3354-49DC-B743-81D94297BC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ability</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ort required to test the system in order to ensure it functions according to the requir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4C784-5B85-4F27-84C5-C81E702D09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exibility</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e of updating or modifying a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923EF-AF2C-483F-A0E5-F5A11898D3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ability</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orts required to transfer a program from one hardware configuration to another, or from one software system to anoth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74A01A-C0F9-4E5F-8973-680BA9A25F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usability</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to which a code could be reused for another applic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F2F7C-A943-4A8D-834F-C813B7E4F7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1</a:t>
            </a:r>
            <a:endParaRPr b="0" lang="en-US" sz="4400" spc="-1" strike="noStrike">
              <a:solidFill>
                <a:srgbClr val="000000"/>
              </a:solidFill>
              <a:latin typeface="Arial"/>
            </a:endParaRPr>
          </a:p>
        </p:txBody>
      </p:sp>
      <p:sp>
        <p:nvSpPr>
          <p:cNvPr id="19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ze of the document (# of words, pages, functions)</a:t>
            </a:r>
            <a:endParaRPr b="0" lang="en-US" sz="26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 of changes to the original requirements, which were developed later in the life cycle but not specified in the original requirements document. This measure indicates how complete the original requirements document was</a:t>
            </a:r>
            <a:endParaRPr b="0" lang="en-US" sz="2600" spc="-1" strike="noStrike">
              <a:solidFill>
                <a:srgbClr val="000000"/>
              </a:solidFill>
              <a:latin typeface="Arial"/>
            </a:endParaRPr>
          </a:p>
          <a:p>
            <a:pPr lvl="1" marL="743040" indent="-285840">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measures to ensure that the requirements are consistent with interfaces from other system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D45BBF8-EA91-4252-8374-F87AA52301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2</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a:t>
            </a:r>
            <a:r>
              <a:rPr b="0" lang="en-US" sz="3200" spc="-1" strike="noStrike">
                <a:solidFill>
                  <a:srgbClr val="cc0000"/>
                </a:solidFill>
                <a:latin typeface="Arial"/>
              </a:rPr>
              <a:t>cont’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ility measures to evaluate if the requirements are written in such a way that the test cases cab be developed and traced to the require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445489-133A-4EE1-A257-2BE92C49F4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3</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roblems detected in the requirements are related to unclear requirement which are difficult to measure and test, such as</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stem must be user friendly. (What does user friendly mean?)</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stem must give speedy response time (What is speedy response time?   10 seconds, 13 second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2B6925-12CC-4422-A872-52A867CA4E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4</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stem must have state-of-the-art technology (What is considered state-of-the-a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stem must have clear management reports (What should these reports look like? What is the definition of clea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8CF1A3-93E0-48F6-BEB3-3D27BF19D8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4</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Design</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external data items from which a module reads</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external data items to which a module writes</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modules specified at a later phase and not in the original desig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modules which the given module calls</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76A530-8DBF-46CF-9805-B7804251A9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5</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Code (</a:t>
            </a:r>
            <a:r>
              <a:rPr b="0" lang="en-US" sz="3200" spc="-1" strike="noStrike">
                <a:solidFill>
                  <a:srgbClr val="cc0000"/>
                </a:solidFill>
                <a:latin typeface="Arial"/>
              </a:rPr>
              <a:t>cont’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lines of cod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usage, measured in terms of the number of primitive data i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ies/exits per module which predict the completion time of the sys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227A82-4AE3-4EB4-BF7D-04A0A972C2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lies at the heart of many systems that govern our liv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measurement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measurement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measurement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mospheric measurement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in every day lif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0C2C53-6794-4593-B243-860E45E665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Measurements - 6</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planned test cases in the test plan that ran successfull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ffectiveness of test cases against the original test pla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new unplanned test cases which are developed at a later tim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0D3945-FCE7-4FE5-9752-9F743365DC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there are several items in organization that can be tracked, measured, and improved, there are seven measures that are commonly track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441DAD-2905-432A-A486-E88E3E86A2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 Commonly Tracked Measures</a:t>
            </a:r>
            <a:endParaRPr b="0" lang="en-US" sz="40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ef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ffor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hanges to the requiremen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defect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30F84-E0BF-4A63-BF9F-52E136E148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Defects - 1</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count can be kept at three different stage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white box testing to evaluate the quality of original code</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black box testing to evaluate the number of errors that escaped white box</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product is released to the customer to evaluate the number of errors not found during both the unit and black box tes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641082-EB83-44AD-8655-F05D688E88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Defects - 2</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with the defect, the origin of the defect should be evaluated and also severity of defect should be no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BDD761-EFA2-4244-A908-9BF991A22F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Effort - 1</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ffort constitutes the number of hours spent on development of a new system, system enhancement, or the support and maintenance of an existing syste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rs are collected throughout the project life cycle, across all the development phases to track commitments, expectations made to the clients, and to provide historical data to improve estimating for future work eff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841793-9179-4B08-95F7-6A49553032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Effort - 2</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early warnings regarding budget over-runs and project del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75D712-BF2F-4695-A58C-EEDC5394DA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dule</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schedule measurements is to track the performance of the project team toward meeting the committed schedu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start date versus actual d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completion date versus actual d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954ABF-B868-475D-A2D8-589FF0D458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Changes to the Requirements - 1</a:t>
            </a:r>
            <a:endParaRPr b="0" lang="en-US" sz="40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additions, changes, and deletions to requirements should be measured as soon as the requirements document is checked into the formal configuration manage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asure reflects the quality of requirements and the need to change the process of either collecting the requirements for documenting th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F290A1-D683-40B9-B685-FF4F9048EC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Changes to the Requirements - 2</a:t>
            </a:r>
            <a:endParaRPr b="0" lang="en-US" sz="40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sure is also used  to determine system stability, since evidence of constantly changing requirements may affect the overall quality of the product</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s to the requirements are counted as they occur</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determination of the mean time from the requirement completion to when the first change was introduced is considered</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6CDB45-9677-4C9A-AE5E-94CDA97349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weight, size,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spect of a thing is assigned a descriptor that allows us to compare it with oth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E296C-C7A6-40A8-98FA-6BC81FF282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Changes to the Requirements - 3</a:t>
            </a:r>
            <a:endParaRPr b="0" lang="en-US" sz="40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ata tells you how thorough the original requirement-gathering phase w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software is released, enhancement requests resulting from customer calls or updates due to problem fixes are also counted as changes are mad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6F8F2-CF37-4F9F-9D95-6D22AA0146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 1</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measures are important because the amount of effort required to perform most tasks is directly related to the size of the program involv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is usually measured i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of cod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35AC2C-5D26-4B1A-9EB4-7D3F5D58B3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 2</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size grows larger than expected, the cost of the project as well as the estimated time for completion also grow</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software is also used for estimating the number of resources required</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sure used to estimate program size should be easy to use early in the project life cyc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F9F70-E06D-4591-9CBC-54807D5514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 3 – Lines of Code</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li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li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d li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s used from other program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9FE81B-FC69-4258-B313-0D34B7F4C4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 4 – Function Points - 1</a:t>
            </a: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method of quantifying the size and complexity of a software system based on a weighted user view of the number of external inputs to the application; number of outputs from the application; inquiries end users can make; interface files; and internal logical files updated by an application</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ive items are counted and multiplied by weight factors that adjust them for complexit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7C7B2F-2A52-4132-8346-EA90767B00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ze – 5 – Function Points - 2</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oints are independent of languages, can be used to measure productivity and number of defects, are available early during functional design, and the entire product can be counted in a short time</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 used for a number of productivity and quality metrics, including defects, schedules, and resource utilization</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More on function points la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946B70-47C2-4695-914D-209EF88C28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ion Defects</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umentation defects are counted throughout project life cy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of the following nature are tracke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functiona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ear explan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er friend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A03E4F-8A49-4169-AF0F-6DAB5C740A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1</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gives data on the complexity of the software code</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complexity of the software increases, the required development effort increases and the probability of defects increases</a:t>
            </a:r>
            <a:endParaRPr b="0" lang="en-US" sz="3200" spc="-1" strike="noStrike">
              <a:solidFill>
                <a:srgbClr val="000000"/>
              </a:solidFill>
              <a:latin typeface="Arial"/>
            </a:endParaRPr>
          </a:p>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can be measured at as many successive levels as possible beginning at the individual software module leve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9CA86-A6A3-40AE-BCCC-EA4585276F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2</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evaluate the number of resources and time that would be required to develop the application, since complex programs require more time for the programmer to code, test, and become familiar with the progra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962651-3C27-4C9C-9AF7-8E1E0C55D7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3</a:t>
            </a: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xity of a module can be evaluated b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i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iz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verbs, if statements, paragraphs, total lines, and loops</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A9C3C5-CF66-4C46-A968-3291CFC33A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is the process by which numbers or symbols are assigned to attributes of entities in the real world in such a way as to describe them according to clearly defined ru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B020F3-6C1D-438D-B873-9B70A5783B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4</a:t>
            </a: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t>
            </a:r>
            <a:r>
              <a:rPr b="0" lang="en-US" sz="3200" spc="-1" strike="noStrike">
                <a:solidFill>
                  <a:srgbClr val="cc0000"/>
                </a:solidFill>
                <a:latin typeface="Arial"/>
              </a:rPr>
              <a:t>cont’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al metrics such a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point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ion verb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7C1339-60E2-4313-A513-4D05C5CA49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5</a:t>
            </a:r>
            <a:endParaRPr b="0" lang="en-US" sz="4400" spc="-1" strike="noStrike">
              <a:solidFill>
                <a:srgbClr val="000000"/>
              </a:solidFill>
              <a:latin typeface="Arial"/>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t>
            </a:r>
            <a:r>
              <a:rPr b="0" lang="en-US" sz="3200" spc="-1" strike="noStrike">
                <a:solidFill>
                  <a:srgbClr val="cc0000"/>
                </a:solidFill>
                <a:latin typeface="Arial"/>
              </a:rPr>
              <a:t>cont’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metrics which are the measure of programming language violations which may not cause compile errors or warning but which are confusing, such a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 cod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esolved procedure exi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9B7D2E-F2B9-4C5E-97CC-E0E0DB0D70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ity - 6</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ity (</a:t>
            </a:r>
            <a:r>
              <a:rPr b="0" lang="en-US" sz="3200" spc="-1" strike="noStrike">
                <a:solidFill>
                  <a:srgbClr val="cc0000"/>
                </a:solidFill>
                <a:latin typeface="Arial"/>
              </a:rPr>
              <a:t>cont’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xity which is measured by</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ity (how well as design is decomposed into small, manageable modul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the interfaces between uni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Cabe’s cyclomatic complexit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AC29AB-8CDF-4C65-AC8D-30AA579E7E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331522-0E43-4764-81AE-82E7EAFFA1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roads to Software Quality: “How-To” Guide and Toolkit by Alka Jarvis and Vern Crandal, PH, 1997, (Chapter 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Metrics: A Rigorous &amp; Practical Approach, by Norman E. Fenton and Shari L. Pleeger, 2</a:t>
            </a:r>
            <a:r>
              <a:rPr b="0" lang="en-US" sz="3200" spc="-1" strike="noStrike" baseline="30000">
                <a:solidFill>
                  <a:srgbClr val="000000"/>
                </a:solidFill>
                <a:latin typeface="Arial"/>
              </a:rPr>
              <a:t>nd</a:t>
            </a:r>
            <a:r>
              <a:rPr b="0" lang="en-US" sz="3200" spc="-1" strike="noStrike">
                <a:solidFill>
                  <a:srgbClr val="000000"/>
                </a:solidFill>
                <a:latin typeface="Arial"/>
              </a:rPr>
              <a:t> Edition, PWS Publishing Company, 1997 (Chapter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83F73-C544-4D64-A6F0-6C6107B1FA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l Software Quality Metrics</a:t>
            </a:r>
            <a:endParaRPr b="0" lang="en-US" sz="40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 time to failure (MTT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dens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s by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E22B4C-0A45-46EA-AB2B-48FEF8FE75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 Time To Failure - 1</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 time to failure metric measures the time between failur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with safety-critical systems such as the airline traffic control systems, avionics, and weapons. For example, in civilian airliners, the probability of certain catastrophic failures must be no worse than 10^(-9) per hou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CC0FE-F172-40A1-B7DA-77E3165504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 Time To Failure - 2</a:t>
            </a:r>
            <a:endParaRPr b="0" lang="en-US" sz="44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ilure occurs when a functional unit of a software-related system can no longer perform its required function or cannot perform it within specified limi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 time between failures (MTBF)</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574382-6B26-499C-B07B-50F20B1C91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Density</a:t>
            </a:r>
            <a:endParaRPr b="0" lang="en-US" sz="4400" spc="-1" strike="noStrike">
              <a:solidFill>
                <a:srgbClr val="000000"/>
              </a:solidFill>
              <a:latin typeface="Arial"/>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density measures the number of defects discovered per some unit of software size (lines of code, function point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density metric is used in many commercial software system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fect rate of a product or the expected number of defects over a certain time period is important for cost and resource estimates of the maintenance phase of the software life cycle</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DFEE04-0C00-45E5-95DA-3C8F7CC813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Severity - 1</a:t>
            </a: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ects by severity metric is a simple count of the number of unresolved defects listed by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is metric is measured at some regular interval and plotted to determine whether or not a trend exi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9ED76-E7A8-40F3-94A4-1432683DF8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ntity is an object or an event in the real worl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tribute is a feature or property of an entity. Typical attributes include the area or color, the cost, or the elapsed time</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ften talk about entities and their attributes interchangeably</a:t>
            </a:r>
            <a:endParaRPr b="0" lang="en-US" sz="28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is cold today’</a:t>
            </a:r>
            <a:endParaRPr b="0" lang="en-US" sz="2400" spc="-1" strike="noStrike">
              <a:solidFill>
                <a:srgbClr val="000000"/>
              </a:solidFill>
              <a:latin typeface="Arial"/>
            </a:endParaRPr>
          </a:p>
          <a:p>
            <a:pPr lvl="1" marL="713160" indent="-274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sman is taller than Al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D1BC2D-7B33-40CB-860A-5D40DE4A02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s by Severity - 2</a:t>
            </a: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trend exists, showing progress toward the acceptable values for each sever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away from those values should raise a flag that the project is at risk of failing to satisfy the conditions of the metric</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7B3163-DFAC-4BCF-AE90-8A643BFB6F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1</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a simple count of the number of new (non-duplicate) problems reported by customers over some time interval</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easured at regular intervals and plotted, the data can be used to identify a trend. Although, a trend may be apparent, it is more useful to determine the reasons behind the tren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8BA4CE-5B65-4D8F-8F36-2D477F5587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2</a:t>
            </a:r>
            <a:endParaRPr b="0" lang="en-US" sz="4400" spc="-1" strike="noStrike">
              <a:solidFill>
                <a:srgbClr val="000000"/>
              </a:solidFill>
              <a:latin typeface="Arial"/>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or example, the number of customer-reported problems increases over time, is it because more end users are using the product?</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measure the number of customers who use the product at the same intervals that you measure customer-reported problems, you might identify a cause-effect or correlation between the metric and number of end users</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 determine that as the number of end users of the system increases the number of customer-reported problems increases, a relationship may exist between the two that suggests that you may have a serious scalability flaw in your produc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7ED7A6-1DB1-467F-B928-610FDA2032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Problems - 3</a:t>
            </a:r>
            <a:endParaRPr b="0" lang="en-US" sz="4400" spc="-1" strike="noStrike">
              <a:solidFill>
                <a:srgbClr val="000000"/>
              </a:solidFill>
              <a:latin typeface="Arial"/>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 is the increase related to greater demands placed on the system by end users as their experience with the product matures? With the help of profiling features, you can determine the load on the produ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A3A373-3AA2-4386-94B2-EEFB76731E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atisfaction - 1</a:t>
            </a:r>
            <a:endParaRPr b="0" lang="en-US" sz="44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ric is typically measured through a customer satisfaction surve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atisfi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dissatisfi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063448-ADE8-4D1A-8935-6F295377FD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er Satisfaction - 2</a:t>
            </a:r>
            <a:endParaRPr b="0" lang="en-US" sz="44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completely satisfied customers</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Satisfied and completely satisfied</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dis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Dissatisfied and completely dissatisfied</a:t>
            </a:r>
            <a:endParaRPr b="0" lang="en-US" sz="28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of non-satisfied customers</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 </a:t>
            </a:r>
            <a:r>
              <a:rPr b="0" lang="en-US" sz="2800" spc="-1" strike="noStrike">
                <a:solidFill>
                  <a:srgbClr val="9999cc"/>
                </a:solidFill>
                <a:latin typeface="Arial"/>
              </a:rPr>
              <a:t>dissatisfied and completely dissatisfied</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927408-9BDB-4FE8-B226-168B511BA3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s of Three Quality Metrics</a:t>
            </a:r>
            <a:endParaRPr b="0" lang="en-US" sz="4400" spc="-1" strike="noStrike">
              <a:solidFill>
                <a:srgbClr val="000000"/>
              </a:solidFill>
              <a:latin typeface="Arial"/>
            </a:endParaRPr>
          </a:p>
        </p:txBody>
      </p:sp>
      <p:sp>
        <p:nvSpPr>
          <p:cNvPr id="277" name=""/>
          <p:cNvSpPr/>
          <p:nvPr/>
        </p:nvSpPr>
        <p:spPr>
          <a:xfrm>
            <a:off x="1905120" y="3657600"/>
            <a:ext cx="21333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23880" y="2971800"/>
            <a:ext cx="449604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0880" y="2133720"/>
            <a:ext cx="853452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136600" y="403848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S</a:t>
            </a:r>
            <a:endParaRPr b="0" lang="en-US" sz="2400" spc="-1" strike="noStrike">
              <a:solidFill>
                <a:srgbClr val="000000"/>
              </a:solidFill>
              <a:latin typeface="Times New Roman"/>
            </a:endParaRPr>
          </a:p>
        </p:txBody>
      </p:sp>
      <p:sp>
        <p:nvSpPr>
          <p:cNvPr id="281" name=""/>
          <p:cNvSpPr/>
          <p:nvPr/>
        </p:nvSpPr>
        <p:spPr>
          <a:xfrm>
            <a:off x="4102560" y="35812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p:txBody>
      </p:sp>
      <p:sp>
        <p:nvSpPr>
          <p:cNvPr id="282" name=""/>
          <p:cNvSpPr/>
          <p:nvPr/>
        </p:nvSpPr>
        <p:spPr>
          <a:xfrm>
            <a:off x="6184800" y="31399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ACTIO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E22F66-F988-43C6-AD65-7DEF740FB5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stablishing a Measurement Program</a:t>
            </a:r>
            <a:endParaRPr b="0" lang="en-US" sz="5000" spc="-1" strike="noStrike">
              <a:solidFill>
                <a:srgbClr val="ffffff"/>
              </a:solidFill>
              <a:latin typeface="Arial"/>
            </a:endParaRPr>
          </a:p>
        </p:txBody>
      </p:sp>
      <p:sp>
        <p:nvSpPr>
          <p:cNvPr id="28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DDCAB2-6820-4192-AD8B-1B43B6CA4D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1</a:t>
            </a:r>
            <a:endParaRPr b="0" lang="en-US" sz="4400" spc="-1" strike="noStrike">
              <a:solidFill>
                <a:srgbClr val="000000"/>
              </a:solidFill>
              <a:latin typeface="Arial"/>
            </a:endParaRPr>
          </a:p>
        </p:txBody>
      </p:sp>
      <p:sp>
        <p:nvSpPr>
          <p:cNvPr id="2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reason for establishing a measurement program</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needs of your audience and stakeholder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level of organizational resistance and how you would address it</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as many staff members as you can to overcome resist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D322B-6190-4759-8837-C307C23089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2</a:t>
            </a: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how much time you have</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if there are any measures already in place that you can use</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metrics to start collecting first</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ere is compatibility of measurement goals with the goals of the organizatio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 phases implementation pla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F672A7-EB70-4C2D-BCC4-30412F9AA8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make judgments about entities solely by knowing and analyzing their attrib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is a process whose definition is far from clear-c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930EA1-E98D-4886-AB0F-A96E585B4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3</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quantifiable targets such as cost, personnel, and schedule targets for the activities and outputs of each phase of the development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measurement plan with appropriate managers and executive manage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4951AF-77C6-475A-9A0D-370D26A408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4</a:t>
            </a: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commitment from upper management to provide you with additional resources or tools, if the need aris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actual values against the target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variances and the reasons for the varian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3F27FD-D4EB-4002-AF04-30086AA440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5</a:t>
            </a: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 plan to address the variance and standardize the plan to prevent these variances from occurring in the future</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history with which to compare future data</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metrics into the development process as a part of the way you do busines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E1F08C-26AD-4B06-9753-41220E3568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ing a Measurement Program - 5</a:t>
            </a: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7FE8B8-C551-47D7-A88E-16F7E20011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by Prototyping</a:t>
            </a:r>
            <a:endParaRPr b="0" lang="en-US" sz="44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prototyping the plan before complete imple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C33E3-CA8C-4497-99FA-18078242A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ment Cycle</a:t>
            </a:r>
            <a:endParaRPr b="0" lang="en-US" sz="4400" spc="-1" strike="noStrike">
              <a:solidFill>
                <a:srgbClr val="000000"/>
              </a:solidFill>
              <a:latin typeface="Arial"/>
            </a:endParaRPr>
          </a:p>
        </p:txBody>
      </p:sp>
      <p:sp>
        <p:nvSpPr>
          <p:cNvPr id="3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llecting measurement data</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he data</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problem area</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rocedures to address the problem area</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buy-in from appropriate staff</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 staff in the new procedures</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new procedures</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he measurement activity</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cess if need b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C1BF07-0DF5-415E-A67F-44172051D2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Failure</a:t>
            </a: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management not commit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plan focused on only one metr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s not utilized as inten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D908BF-1378-43F7-814F-A381192A75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Analysis and Guidelines for Success by Capers Jones</a:t>
            </a: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Oriented Software Quality Assurance by Frank P. Ginac (Chapter 1 and 3)</a:t>
            </a: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roads to Software Quality: “How-To” Guide and Toolkit by Alka Jarvis and Vern Crandal, PH, 1997, (Chapter 8)</a:t>
            </a: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Models in Software Quality Engineering by Stephan H. Kan (Chapter 4)</a:t>
            </a: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Metrics: A Rigorous &amp; Practical Approach, by Norman E. Fenton and Shari L. Pleeger, 2</a:t>
            </a:r>
            <a:r>
              <a:rPr b="0" lang="en-US" sz="2400" spc="-1" strike="noStrike" baseline="30000">
                <a:solidFill>
                  <a:srgbClr val="000000"/>
                </a:solidFill>
                <a:latin typeface="Arial"/>
              </a:rPr>
              <a:t>nd</a:t>
            </a:r>
            <a:r>
              <a:rPr b="0" lang="en-US" sz="2400" spc="-1" strike="noStrike">
                <a:solidFill>
                  <a:srgbClr val="000000"/>
                </a:solidFill>
                <a:latin typeface="Arial"/>
              </a:rPr>
              <a:t> Edition, PWS Publishing Company, 1997 (Chapter 1)</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D2D056-7B67-4D9F-9589-F205F39E2A9A}" type="slidenum">
              <a:t>9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9:03:09Z</dcterms:created>
  <dc:creator>Ghulam Ahmad Farrukh</dc:creator>
  <dc:description/>
  <dc:language>en-US</dc:language>
  <cp:lastModifiedBy>ahmadmohsin</cp:lastModifiedBy>
  <dcterms:modified xsi:type="dcterms:W3CDTF">2009-07-24T07:33:20Z</dcterms:modified>
  <cp:revision>134</cp:revision>
  <dc:subject/>
  <dc:title>Introduction to Quality Metrics - 1</dc:title>
</cp:coreProperties>
</file>